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wmf" ContentType="image/x-wmf"/>
  <Override PartName="/ppt/media/image16.png" ContentType="image/png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80A1-1394-4846-8A60-6ECA427F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CA2B-439E-41E7-B960-45E36FCA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D332-A3E3-4ED5-87CE-50F3DAD9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2A87C-1D50-4DA2-BABD-A352F056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810C-A723-43FE-BFD6-920E0276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D53A-7446-404B-AA81-4EAE771D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04D4-EC75-4B14-8525-9586B23C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C228-AC09-4492-9E13-E8060688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5B6D-83A2-462F-90C3-90604904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4311-10CB-4085-8A1D-878B0098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587D-3424-41A9-A13E-15A8F168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0B245-2C21-45F9-8AC6-DBF21C63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0CEC-088E-43B1-8DB8-17A466F2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00CA-E823-417C-87C4-947B8770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941F-BA0D-43A2-A1F3-DE2A4AF0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4CF2-03A1-438B-9633-E1C94DF4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3971-597C-46AB-918B-07121C49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C8E8-7208-4C9E-905F-DC3A9CA9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EA98-26BF-46AF-AA1E-99E5C8EB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457C-4549-403F-BB0C-3373F669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B5F7-9A1A-4E7A-B8A3-EF486F38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45DB-9849-4414-A638-AE65273E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38B67-F2CD-4662-BA82-B5D6203B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10FB-6C2C-46E6-8E47-4F49FC8B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26E0-DC6E-42C2-B9D3-6846C6319D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A012-027D-4ECF-8626-A3141E8A54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M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60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O in the US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contrast="92000"/>
          </a:blip>
          <a:stretch/>
        </p:blipFill>
        <p:spPr>
          <a:xfrm>
            <a:off x="2895480" y="1905120"/>
            <a:ext cx="2962440" cy="3524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177156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decision models project o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s life… at least for the next 60 days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t to be outdone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eo adds a constraint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New York to Boston and Boston to New York cells cannot be more than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d Mateo outsmart Solve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647676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ose…But No Cig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w he goes from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w York to Boston to Baltimo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akland to Los Angeles to Seatt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 Mateo adds a new set of constraint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Y to Boston + Boston to NY + NY to Baltimore + Baltimore to NY + Boston to Baltimore + Baltimore to Boston ≤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 does the same for the west coast loop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almost works but now he’s left with a loop in the Midwest. So he adds a third looping constraint with Chicago/Detroit/Cleve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CCESS! Optimal Rou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848360" cy="514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>
            <a:off x="7311960" y="3276720"/>
            <a:ext cx="30816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09880"/>
            <a:ext cx="536760" cy="1905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419720" y="5257800"/>
            <a:ext cx="23652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219320" y="4495320"/>
            <a:ext cx="320328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837720" y="3733920"/>
            <a:ext cx="38124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38080" y="1905120"/>
            <a:ext cx="533520" cy="1828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1905120"/>
            <a:ext cx="3657600" cy="99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800600" y="2895480"/>
            <a:ext cx="231840" cy="1067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00600" y="3429000"/>
            <a:ext cx="91440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715000" y="3276360"/>
            <a:ext cx="60948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3276720"/>
            <a:ext cx="22860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553080" y="2971800"/>
            <a:ext cx="137160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620120" y="2971800"/>
            <a:ext cx="30456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3124080"/>
            <a:ext cx="2546280" cy="119124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tal Miles Travel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8,87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5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9500"/>
                            </p:stCondLst>
                            <p:childTnLst>
                              <p:par>
                                <p:cTn id="37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5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20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ames Schedu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371600"/>
          <a:ext cx="8229600" cy="5222880"/>
        </p:xfrm>
        <a:graphic>
          <a:graphicData uri="http://schemas.openxmlformats.org/drawingml/2006/table">
            <a:tbl>
              <a:tblPr/>
              <a:tblGrid>
                <a:gridCol w="977760"/>
                <a:gridCol w="1559160"/>
                <a:gridCol w="2565360"/>
                <a:gridCol w="3127320"/>
              </a:tblGrid>
              <a:tr h="50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9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w York 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Yanke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0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ltimo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il Rays at Orio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5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mpa Ba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Devil Ray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21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x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ins at Rang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28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s Ange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iners at Ange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29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ak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Athlet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31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Marin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8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neso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ionals at Twi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9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ansas 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illies at Roy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0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ca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tros at White So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2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tro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ewers at Tig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5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ve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aves at India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6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st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iants at Red So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7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w York 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s at Yanke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s that i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teo doesn’t just want to see the games…he wants to see the teams win at ho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 Mateo pulls the 2006 record from the MLB.com website and decides to run a CrystalBall simulation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876920" y="1600200"/>
          <a:ext cx="3885840" cy="4525560"/>
        </p:xfrm>
        <a:graphic>
          <a:graphicData uri="http://schemas.openxmlformats.org/drawingml/2006/table">
            <a:tbl>
              <a:tblPr/>
              <a:tblGrid>
                <a:gridCol w="1575360"/>
                <a:gridCol w="2310480"/>
              </a:tblGrid>
              <a:tr h="32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6 Reco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anke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5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io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il R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ge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5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thletic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5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in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i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5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y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ite So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5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g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5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ia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 So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5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tting up Crystal Ba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teo creates win/loss assumptions for each city and calculates the games needed to see a w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0010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ump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 bases each team’s win/lose assumptions on their record last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6386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ul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ter 10,000 runs, Mateo sees that his trip, on average, will take 25 “game days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 wants to see an example of how that would work, in practi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733920" y="1523880"/>
            <a:ext cx="487656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362320" cy="1944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roa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teo runs Crystal Ball once to get an average 25-game-day ins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352680" y="327816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752480" y="327816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952880" y="190512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400800" y="56988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400800" y="190512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228600" y="472428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1752480" y="472428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3352680" y="472428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4876920" y="3278160"/>
            <a:ext cx="2361960" cy="1944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4876920" y="4724280"/>
            <a:ext cx="2361960" cy="1944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2"/>
          <a:stretch/>
        </p:blipFill>
        <p:spPr>
          <a:xfrm>
            <a:off x="6400800" y="3276720"/>
            <a:ext cx="2362320" cy="194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3"/>
          <a:stretch/>
        </p:blipFill>
        <p:spPr>
          <a:xfrm>
            <a:off x="6400800" y="4724280"/>
            <a:ext cx="23623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2819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Games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chedu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905120" y="154080"/>
          <a:ext cx="8229600" cy="6551640"/>
        </p:xfrm>
        <a:graphic>
          <a:graphicData uri="http://schemas.openxmlformats.org/drawingml/2006/table">
            <a:tbl>
              <a:tblPr/>
              <a:tblGrid>
                <a:gridCol w="977760"/>
                <a:gridCol w="1559160"/>
                <a:gridCol w="2565360"/>
                <a:gridCol w="3127320"/>
              </a:tblGrid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9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w York C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Yanke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0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ltimo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il Rays at Oriol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5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mpa B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Devil Ray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6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mpa B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Devil Ray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7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mpa B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Devil Ray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8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mpa B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lins at Devil Ray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21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x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ins at Rang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28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s Angel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iners at Ange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29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s Angel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iners at Ange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30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ak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Athletic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ak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ins at Athletic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2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ak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ins at Athletic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3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ak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ins at Athletic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4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att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ioles at Marin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5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att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ioles at Marin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6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att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ioles at Marin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8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neso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ionals at Twi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9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ansas C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illies at Roya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0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ansas C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illies at Roya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2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ansas C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rdinals at Roya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8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cag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lins at White So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25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troi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Tig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26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ve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thletics at India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27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ve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thletics at India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29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st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Red So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teo Rodriguez-Braun i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00200" y="1287360"/>
          <a:ext cx="4191120" cy="55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87360"/>
                    <a:ext cx="419112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at must be it?!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teo is convinced that he has the perfect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t… he needs to run the plans by his wif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e will allow this vacation, but she will set his budget so that he can meet it with 95% likelih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37623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Budg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95% confidence, Mateo’s trip will cost less than $5852.00 -- roughly equivalent to one semester of Decision Mod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any extra money, he should buy souvenirs for his wif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38680" y="3962520"/>
            <a:ext cx="2819520" cy="2320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42670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¿Pregunta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teo passes his life yearning to live in the 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ly one day, he makes application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is accepted by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city of New York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4191120"/>
            <a:ext cx="71247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r 2 years he receives far too much work from all his professors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never really gets to see the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2133720"/>
            <a:ext cx="8305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o, upon graduation, he sets out to do just that…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2800" spc="-1" strike="noStrike" u="sng">
                <a:solidFill>
                  <a:srgbClr val="e5e5ff"/>
                </a:solidFill>
                <a:uFillTx/>
                <a:latin typeface="Garamond"/>
              </a:rPr>
              <a:t>El Plane: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(Objective Function)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To visit as many American League baseball stadiums as possible in a 60 day period (after graduation). 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e5e5ff"/>
                </a:solidFill>
                <a:uFillTx/>
                <a:latin typeface="Garamond"/>
              </a:rPr>
              <a:t>Subject to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: Lack of money and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time, green card issues, and a desire to see home team victories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o Travel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of high gas prices Mateo wants to find the shortest route to the American League stadiu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of his green card issues, Mateo can’t go to Toronto to see the Blue Jays play at ho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 he’s left with 13 cities to vis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eo uses Juran’s wisdom to create a route in Sol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merican League Te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00200" y="907920"/>
          <a:ext cx="6172200" cy="5111640"/>
        </p:xfrm>
        <a:graphic>
          <a:graphicData uri="http://schemas.openxmlformats.org/drawingml/2006/table">
            <a:tbl>
              <a:tblPr/>
              <a:tblGrid>
                <a:gridCol w="3085920"/>
                <a:gridCol w="308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ocation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ge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os Ange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thle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ak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vil R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mpa B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i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eve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in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io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lti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ang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x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d So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ost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y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ansas C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ig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tro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wi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nneso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hite So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ica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anke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w Y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880" y="6102360"/>
            <a:ext cx="82296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st Try: Total Miles = 6,98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7150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t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ver is wrong &amp; does not loop cities toge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eo is traveling in circ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York to Boston to New Y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ltimore to Tampa Bay to Baltimo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xas to Kansas City to Tex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icago to Minneapolis to Chicag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eveland to Detroit to Cleve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s Angeles to Oakland to Seattle to Los Ange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02:46:55Z</dcterms:created>
  <dc:creator> </dc:creator>
  <dc:description/>
  <dc:language>en-US</dc:language>
  <cp:lastModifiedBy>t</cp:lastModifiedBy>
  <dcterms:modified xsi:type="dcterms:W3CDTF">2007-04-23T12:53:11Z</dcterms:modified>
  <cp:revision>38</cp:revision>
  <dc:subject/>
  <dc:title>M-a-t-e-o in the USA</dc:title>
</cp:coreProperties>
</file>